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6E2-FCC2-488A-933B-536DCA07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2EA-32DE-4D61-9655-562AB68C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BD1-6EE5-4033-B9E1-8FFC425A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FB8-84FA-48F3-8DF8-66C74AD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B04-CEF0-4786-895A-3B4E5840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A161-1271-4E74-86E6-9899797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E2D-37DF-4E7A-8E25-D6AAF0D1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5A3D-8EA4-459D-A4DD-91F21DF2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202-B8F2-4DAC-9F97-C0909EC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B9D-136A-483B-BC21-1936658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B77-13BC-4D66-840F-D2DBD66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B6B-03FE-4C21-9A82-84AD4D1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34B4-DDF1-41A2-9829-F28A27F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D6D-D9A4-408E-9658-28BFFD3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FC06-80D0-4740-B4B1-36659251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4D96-9E9A-4A8A-8574-129B2DFD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FA4-5CED-4F81-95EE-82D51400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8F4-AC10-4AA8-93A2-C1B24E5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CAC-BBC5-4345-A07D-AE14B5FD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7B6-87E2-4211-BF76-D0AE06B4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3F6-5079-4756-A965-359600BF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07A-2F68-42FB-9C39-7D821EF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E64-3281-44AC-B160-6230BBA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E33-6C8B-4636-9774-6D85589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B08B-BC69-49FF-99BF-3AE3A5F8E8C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64E-B30B-4E3F-9C84-B9B693DEC32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illuminations.nctm.org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xtkit.com/latin_grammar.php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csiseminar.wikispaces.com/" TargetMode="External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kpruitt77/1935339986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Using Technology to Enhance Instr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5886360"/>
            <a:ext cx="86108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isa Dur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Broadfording Christian Acade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classrooms we ne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364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14840" y="2571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ink-Pair-Sh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you acquire new knowledg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your personal &amp; professional interest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out what are you passionat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do you currently learn &amp; grow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urn to a person beside you &amp; tell them your answers (2 min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ll the person behind or in front of you what you were told (2 mi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ink-Pair-Sh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learners acquire new knowledg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at are their interest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out what are they passionate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do they currently learn &amp; grow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ee Web2.0 tools can connect today’s learners to communities &amp; content that interest the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60020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ow to integr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es one go from integrating technology to MI Theory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-1976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6200" y="2590920"/>
            <a:ext cx="48387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ntegrating Technology through MI The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ard Gardn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2871720"/>
            <a:ext cx="3048120" cy="266220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multiple intelligences ar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114800" cy="2535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ISUAL/SPATIAL 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ERBAL/LINGUISTIC 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ATHEMATICAL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LOGIC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ODILY/KINESTHETIC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USICAL/RHYTHMIC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NTRAPERSON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NTERPERSONAL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ATURALIST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ISTENTIAL (maybe)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2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038480" cy="3065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th</a:t>
            </a:r>
            <a:br>
              <a:rPr sz="3200"/>
            </a:b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Illuminations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 NCTM's webs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9240" y="1371600"/>
            <a:ext cx="583164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ti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Textkit</a:t>
            </a:r>
            <a:br>
              <a:rPr sz="2800"/>
            </a:br>
            <a:r>
              <a:rPr b="0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llection of Latin textbook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0" t="11782" r="38397" b="0"/>
          <a:stretch/>
        </p:blipFill>
        <p:spPr>
          <a:xfrm>
            <a:off x="3200400" y="32004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ib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21178" r="7644" b="9413"/>
          <a:stretch/>
        </p:blipFill>
        <p:spPr>
          <a:xfrm>
            <a:off x="1371600" y="1828800"/>
            <a:ext cx="74786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ationa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19374" t="21880" r="41882" b="37491"/>
          <a:stretch/>
        </p:blipFill>
        <p:spPr>
          <a:xfrm>
            <a:off x="3429000" y="1752480"/>
            <a:ext cx="4724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esentation Forma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ay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ho I a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estimony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y should we integrate? (video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nk-Pair-Shar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 la Durff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I Theor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tent area integration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aborative group activity (15 min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fo for this session at </a:t>
            </a:r>
            <a:r>
              <a:rPr b="0" lang="en-US" sz="2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acsiseminar.wikispaces.com/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spd="slow" advTm="900000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usi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ypersco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31006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cien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18748" t="21880" r="20634" b="35147"/>
          <a:stretch/>
        </p:blipFill>
        <p:spPr>
          <a:xfrm>
            <a:off x="1371600" y="19051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panis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tes for integra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52387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llaborative Group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one unit plan in a collaborative group using both MIs and Bloom's Taxonomy to integrate technology. Use the hardcopy handout of the grid to create your pla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se will be shared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 the wiki over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anksgivin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13000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echnology is not the enemy.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olcatteacher mov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et’s make a Podcas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flect on at least one take-away by using your touch-tone phone.                                         Call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1.888.887.3127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                            channel number: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5242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#                          channel password: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#                                                                                                      Pres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to record                                                                                                           Talk                                                                 Pres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to publish                                         your audio will be added to this podcast (it may take awhile depending on many factors) 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58000" y="2514600"/>
            <a:ext cx="10382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siness ca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valuation Card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 Convention Program Boo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eed a volunteer to collect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you lea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ay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746440" cy="34430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avis, Victoria (2007, March 23) Technology Fear Factor. [Video] United States: Westwood School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cJohn took the final exam photograph covered under a Creative Commons Attribution 2.0 license available at http://www.flickr.com/photos/34017702@N00/74907741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raper, Darren (2007, April 4) Have you been paying attention? [Video] United States: Jordan School Distric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re Monkey Fish, (2006, July 14). Retrieved November 16, 2007, from Flickr Web site: http://www.flickr.com/photos/mmewuji/189813379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sch, K. (2007). 2020 Vision. [Video] United States: Arapahoe High School, Colorad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scher, J. (2005, December 5). Chicago Symphony Orchestra, featuring the Marcus Roberts Trio. Retrieved November 17, 2007, from http://www.flickr.com/photos/jordanfischer/72510316/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Gardner, Howard (2003, April 21). Multiple Intelligences After Twenty Years. Retrieved November 10, 2007, from Paper presented at the American Educational Research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1000">
    <p:cover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m *S, (2007, May 4). Retrieved November 16, 2007, from Flickr Web site: http://www.flickr.com/photos/saaenara/483806161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Lawler, Greg (2006, March 23). Retrieved November 16, 2007, from Flickr Web site: http://www.flickr.com/photos/zinkwazi/117097746/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mtzjr69out (2006, June 13) retrieved November 16, 2007 from Flickr Web site: http://www.flickr.com/photos/56477019@N00/166858645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ruitt, K. (2007). DuBois Commlab. Retrieved June 2007, from kpruitt’s Flickr account at http://www.flickr.com/photos/kpruitt77/534591487/ 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ruitt, K. (2007, November 9). Digital Native. Retrieved November 17, 2007 from http://www.flickr.com/photos/kpruitt77/1935339986</a:t>
            </a: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/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Zombuki, Philips (2007, March 30). Retrieved November 16, 2007, from Flickr Web site: http://www.flickr.com/photos/riotsqurrl/440192791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 advTm="1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ntrodu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’m mrsdurff onlin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 am just a learn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y Testimon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ntegrate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0" y="1294920"/>
            <a:ext cx="53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25960" cy="441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0080" y="5715000"/>
            <a:ext cx="28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From an anonymous German postcard 1888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8800" y="1684440"/>
            <a:ext cx="28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nvisible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000" y="3124080"/>
            <a:ext cx="308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mles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000" y="4572000"/>
            <a:ext cx="35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biquitous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 advTm="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ave you been paying atten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1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y Integrate?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91120" y="3505320"/>
            <a:ext cx="4343400" cy="27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y both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563904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o educate these learners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9200" y="75960"/>
            <a:ext cx="852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classrooms we ha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419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2:14:38Z</dcterms:created>
  <dc:creator>Lisa C Durff</dc:creator>
  <dc:description/>
  <cp:keywords/>
  <dc:language>en-US</dc:language>
  <cp:lastModifiedBy>HP Authorized Customer</cp:lastModifiedBy>
  <dcterms:modified xsi:type="dcterms:W3CDTF">2008-11-23T01:58:34Z</dcterms:modified>
  <cp:revision>115</cp:revision>
  <dc:subject/>
  <dc:title>Using Technology to Enhanc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51033</vt:lpwstr>
  </property>
</Properties>
</file>